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0107-9534-4956-B966-1D13D7946B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3469-C7AC-462B-BB67-95F4C106C8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Any amino acids in excess of the biosynthetic needs of the cell are rapidly degraded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The first phase of catabolis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he removal of the α-amino groups (usually by transamination and subsequent oxidative deamination), forming ammonia and the corresponding α-keto acid—the “carbon skeletons” of amino ac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 portion of the free ammonia is excreted in the urine, but most is used in the synthesis of urea (Figure 19.1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quantitatively the most important route for disposing of nitrogen from the 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BE9D-36C4-4FDF-B04C-C57436C2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2B29-29CD-4406-B4EF-DC438EBFF5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1E0F-E016-4018-9AE8-B014AC69D3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8F29-11A0-4912-A70D-06BAA5D298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3AD-035F-48C8-9FD9-EE3F250BD1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0B6E-DA41-4966-878E-E1950DC857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DC91-DBB2-4276-8BAF-4ABE689F3C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fats and carbohydrates,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mino acids are not stored by the 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is, 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no protein exists wh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 function is to maintain a supply of amino acids for future 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CE1-ADE3-4E23-AF57-4CF15B24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F70C-2EDF-46F4-8F7A-B597CB3C86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37D0-0EBF-43C4-BF71-26AA644611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7555-BF94-484C-9F6D-22EFCD22C0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215-D3EB-40CF-A116-8787764FBF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8F40-CD8D-4967-8E62-75A52BAF72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3229-D528-49EF-B94C-3DC755198D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557E-BA37-48AA-AF6E-589BBC929A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000000"/>
                </a:solidFill>
                <a:latin typeface="Aharoni"/>
                <a:ea typeface="Aharoni"/>
              </a:rPr>
              <a:t>Overall Nitrogen Metabolism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mino acid catabolis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part of the larger process of the metabolism of nitrogen-containing molecul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Nitrogen enters the body i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variety of compounds present in food, the 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most importan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ing amino acids contained in dietary protei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Nitrogen leaves the body as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ure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ammoni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oth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roducts derived from amino acid metabolis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The role of body protei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ese transformation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lv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wo important concepts: the 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amino acid pool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and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 protein turnover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4DE5-1EE3-4B9D-9E4D-118FF767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0A8D-CD20-4117-A979-9A26403C0E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F996-8FA8-46AC-AFC5-F27ADFE39A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C4A2-2F4D-4C04-8649-9AFF289E0B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CCCC-67F2-4A51-99E1-20F5EC98E3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26BD-C445-4985-A899-E9F81E5534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in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ny proteins,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regulation of synthe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he concentration of protein in the cell, with protein degradation assuming a minor ro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proteins, the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rate of synthesis is constitu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is, relatively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ellular levels of the protein are controlled by selective degrad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5DB5-4CA3-4BAA-9859-7AFDE0070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5C47-DF12-4DF0-A269-114C539A54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lang="en-US" sz="1200" spc="-1" strike="noStrike">
                <a:solidFill>
                  <a:srgbClr val="ff0000"/>
                </a:solidFill>
                <a:latin typeface="Arial Black"/>
              </a:rPr>
              <a:t>portion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of the free ammonia is excreted in urine </a:t>
            </a:r>
            <a:r>
              <a:rPr b="1" lang="en-US" sz="1200" spc="-1" strike="noStrike">
                <a:solidFill>
                  <a:srgbClr val="ff0000"/>
                </a:solidFill>
                <a:latin typeface="Arial Black"/>
              </a:rPr>
              <a:t>but most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is used in the synthesis of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D86A-A7FA-4866-973D-2A42F937F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82F-D9D0-4276-AF71-4008011C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574-330C-4CD1-8BD7-ADFE5C82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7E4-5EC7-40CB-9CDE-A5A133D6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984-90EB-4E2D-A284-93812AC7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30A-E21D-414C-B19C-97A399AD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AE9-43FE-4CC9-90B8-71A5239B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CDA-1E3C-4570-8BA9-CD7DEC73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54F-A8DC-459B-911F-4D4DAB13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311-FBA5-41DA-89CA-8218948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B7D-2D99-45DD-975C-84329DB1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246-60A6-4C3F-AB57-968B52E2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8AD-90EE-4EE0-B4CE-06DB8B55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BB3F-5F4F-4EF2-889D-AAA1922F38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229600" cy="18716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mino Acids Metabolism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Disposal of Nitro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66400" y="765000"/>
            <a:ext cx="8481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produced by all tissues from the catabolism of amino acids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mainly  disposed is via formation o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ure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in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Blood level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must be kept very low, otherwise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hyperammonemia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CNS toxicit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ill occ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To solve this problem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transported from peripheral tissues to liver via form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-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Glutamine (most tiss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-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Alanine (muscl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89080" y="366840"/>
            <a:ext cx="8610480" cy="58140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phase of A. A. catabo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080" y="3860640"/>
            <a:ext cx="8610480" cy="259272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ATP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CO2 &amp; H2O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by Citric acid cyc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Glucose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 (by gluconeogen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Fatty Acids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from acetyl 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Ketone Bodies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from acetyl 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6"/>
          <p:cNvSpPr/>
          <p:nvPr/>
        </p:nvSpPr>
        <p:spPr>
          <a:xfrm>
            <a:off x="4067280" y="2492280"/>
            <a:ext cx="936360" cy="12798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79280" y="1220760"/>
            <a:ext cx="872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haroni"/>
              </a:rPr>
              <a:t>arbon skeletons of the α-ketoacids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re converted to common intermediates of energy producing, metabolic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07640" cy="7909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Amino Acids Metabolism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Removal of Nitrogen from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ino Acid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emoving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-amino group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Essential for producing energy from any amin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n obligatory step for the catabolism of all 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46040" y="2997360"/>
            <a:ext cx="8229600" cy="7189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  <a:ea typeface="Verdana"/>
              </a:rPr>
              <a:t>Deamination Path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4097160"/>
            <a:ext cx="8496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Amino group (nitrogen) is removed from an amino acid by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-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nsamination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 by transamin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xidativ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aminatio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 by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3-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aminatio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600" y="1927080"/>
            <a:ext cx="3271680" cy="403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468360" y="316080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995640" y="2421000"/>
            <a:ext cx="52563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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-ketoglutarate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ccepts the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mino group from amino acids to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become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glutamate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by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1800" spc="-1" strike="noStrike" u="sng">
                <a:solidFill>
                  <a:srgbClr val="0070c0"/>
                </a:solidFill>
                <a:uFillTx/>
                <a:latin typeface="Verdana"/>
              </a:rPr>
              <a:t>Transaminases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(aminotransferases)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Glutamate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0" lang="en-US" sz="1600" spc="-1" strike="noStrike">
                <a:solidFill>
                  <a:srgbClr val="0070c0"/>
                </a:solidFill>
                <a:latin typeface="Verdana"/>
              </a:rPr>
              <a:t>Glutamate dehydrogenase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monia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>
            <a:off x="3059280" y="2641680"/>
            <a:ext cx="12967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3068280" y="4437000"/>
            <a:ext cx="1366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68360" y="189000"/>
            <a:ext cx="8229600" cy="9936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Transa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41720" y="1268280"/>
            <a:ext cx="53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LL  Amino Acids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xcept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ysine &amp; threonine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wn Arrow 9"/>
          <p:cNvSpPr/>
          <p:nvPr/>
        </p:nvSpPr>
        <p:spPr>
          <a:xfrm flipH="1">
            <a:off x="766800" y="6002280"/>
            <a:ext cx="106848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235440" y="62643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nergy, glucose, FAs or KB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wn Arrow 16"/>
          <p:cNvSpPr/>
          <p:nvPr/>
        </p:nvSpPr>
        <p:spPr>
          <a:xfrm>
            <a:off x="4775040" y="4818240"/>
            <a:ext cx="1373400" cy="37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468360" y="3859200"/>
            <a:ext cx="3238560" cy="459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nsami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28"/>
          <p:cNvSpPr/>
          <p:nvPr/>
        </p:nvSpPr>
        <p:spPr>
          <a:xfrm flipH="1">
            <a:off x="554760" y="1906560"/>
            <a:ext cx="107028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n Arrow 29"/>
          <p:cNvSpPr/>
          <p:nvPr/>
        </p:nvSpPr>
        <p:spPr>
          <a:xfrm flipH="1">
            <a:off x="4638600" y="3776760"/>
            <a:ext cx="171792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Glutam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m transamination step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y enzyme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monia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-ketoglut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ea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d for trans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further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 flipH="1">
            <a:off x="1835280" y="2414520"/>
            <a:ext cx="1728720" cy="438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4500720" y="2414520"/>
            <a:ext cx="1511280" cy="4381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1763640" y="3429000"/>
            <a:ext cx="0" cy="1584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084720" y="3429000"/>
            <a:ext cx="0" cy="1440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755640" y="274680"/>
            <a:ext cx="7931160" cy="1138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Oxidative deamination 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by Glutamate Dehydroge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agnostic Value of Plasma Aminotransf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4560" y="1844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Aminotransferases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 are normally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intracellular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Plasma contains low levels of aminotransferases</a:t>
            </a: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representing release of cellular contents during normal cell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Elevated plasma levels of aminotransferases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indicat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damage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to cells rich in these 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(as physical trauma or disease to 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Plasm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AST &amp; ALT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are of particular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diagnostic value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1-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liver disease</a:t>
            </a: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lasma ALT &amp; AST are elevated in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nearly all liver diseases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but, particularly high in conditions that cause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cell necrosis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al hepa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oxic 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rolonged circulatory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LT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more specific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or liver disease than 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ST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more sensitive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(as liver contains a large amount of 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2-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Verdana"/>
              </a:rPr>
              <a:t>Nonhepatic disease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s:  Myocardial infar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keletal muscle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hese disorders can be distinguished clinically from liver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gency FB"/>
              </a:rPr>
              <a:t>Transdea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Verdana"/>
              </a:rPr>
              <a:t>►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It is combination of transamination &amp; oxidative dea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It includes the transamination of most a.as with </a:t>
            </a:r>
            <a:r>
              <a:rPr b="0" lang="el-GR" sz="2000" spc="-1" strike="noStrike">
                <a:solidFill>
                  <a:srgbClr val="0000cc"/>
                </a:solidFill>
                <a:latin typeface="Verdana"/>
              </a:rPr>
              <a:t>α–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keto glutarate to form glutamate then the glutamate is oxidatively deaminated reforming </a:t>
            </a:r>
            <a:r>
              <a:rPr b="0" lang="el-GR" sz="2000" spc="-1" strike="noStrike">
                <a:solidFill>
                  <a:srgbClr val="0000cc"/>
                </a:solidFill>
                <a:latin typeface="Verdana"/>
              </a:rPr>
              <a:t>α–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keto glutarate and giving ammonia. This provides a pathway by which the amino group of most a.as is released in the form of ammo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801880" y="5246640"/>
            <a:ext cx="76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"/>
          <p:cNvGrpSpPr/>
          <p:nvPr/>
        </p:nvGrpSpPr>
        <p:grpSpPr>
          <a:xfrm>
            <a:off x="392040" y="3354480"/>
            <a:ext cx="7925040" cy="2666880"/>
            <a:chOff x="392040" y="3354480"/>
            <a:chExt cx="7925040" cy="2666880"/>
          </a:xfrm>
        </p:grpSpPr>
        <p:sp>
          <p:nvSpPr>
            <p:cNvPr id="129" name="Rectangle 4"/>
            <p:cNvSpPr/>
            <p:nvPr/>
          </p:nvSpPr>
          <p:spPr>
            <a:xfrm>
              <a:off x="1001520" y="3583080"/>
              <a:ext cx="1066680" cy="457200"/>
            </a:xfrm>
            <a:prstGeom prst="rect">
              <a:avLst/>
            </a:prstGeom>
            <a:solidFill>
              <a:srgbClr val="ff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a50021"/>
                  </a:solidFill>
                  <a:latin typeface="Arial"/>
                </a:rPr>
                <a:t>α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- a.a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468000" y="5411880"/>
              <a:ext cx="1600200" cy="533160"/>
            </a:xfrm>
            <a:prstGeom prst="rect">
              <a:avLst/>
            </a:prstGeom>
            <a:solidFill>
              <a:srgbClr val="ff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a50021"/>
                  </a:solidFill>
                  <a:latin typeface="Arial"/>
                </a:rPr>
                <a:t>α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- keto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3287520" y="3506760"/>
              <a:ext cx="251460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a50021"/>
                  </a:solidFill>
                  <a:latin typeface="Arial"/>
                </a:rPr>
                <a:t>α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- keto gluta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3287520" y="5411880"/>
              <a:ext cx="251460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Glutam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8"/>
            <p:cNvSpPr/>
            <p:nvPr/>
          </p:nvSpPr>
          <p:spPr>
            <a:xfrm>
              <a:off x="2066760" y="3808440"/>
              <a:ext cx="609480" cy="1981080"/>
            </a:xfrm>
            <a:custGeom>
              <a:avLst/>
              <a:gdLst>
                <a:gd name="textAreaLeft" fmla="*/ 0 w 609480"/>
                <a:gd name="textAreaRight" fmla="*/ 427680 w 609480"/>
                <a:gd name="textAreaTop" fmla="*/ 495360 h 1981080"/>
                <a:gd name="textAreaBottom" fmla="*/ 148608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9"/>
            <p:cNvSpPr/>
            <p:nvPr/>
          </p:nvSpPr>
          <p:spPr>
            <a:xfrm>
              <a:off x="2678040" y="3735360"/>
              <a:ext cx="533160" cy="2057400"/>
            </a:xfrm>
            <a:custGeom>
              <a:avLst/>
              <a:gdLst>
                <a:gd name="textAreaLeft" fmla="*/ 156600 w 533160"/>
                <a:gd name="textAreaRight" fmla="*/ 533520 w 533160"/>
                <a:gd name="textAreaTop" fmla="*/ 514080 h 2057400"/>
                <a:gd name="textAreaBottom" fmla="*/ 15433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1763640" y="3583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1763640" y="5488200"/>
              <a:ext cx="761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392040" y="4497480"/>
              <a:ext cx="2133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Glutamate transamina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2830320" y="3354480"/>
              <a:ext cx="8380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5"/>
            <p:cNvSpPr/>
            <p:nvPr/>
          </p:nvSpPr>
          <p:spPr>
            <a:xfrm>
              <a:off x="5802480" y="3735360"/>
              <a:ext cx="761760" cy="1981080"/>
            </a:xfrm>
            <a:custGeom>
              <a:avLst/>
              <a:gdLst>
                <a:gd name="textAreaLeft" fmla="*/ 0 w 761760"/>
                <a:gd name="textAreaRight" fmla="*/ 534240 w 761760"/>
                <a:gd name="textAreaTop" fmla="*/ 495360 h 1981080"/>
                <a:gd name="textAreaBottom" fmla="*/ 148608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>
              <a:off x="6564600" y="3963960"/>
              <a:ext cx="380880" cy="152388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380880 h 1523880"/>
                <a:gd name="textAreaBottom" fmla="*/ 114300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6488280" y="3583080"/>
              <a:ext cx="8380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497560" y="350676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0"/>
            <p:cNvSpPr/>
            <p:nvPr/>
          </p:nvSpPr>
          <p:spPr>
            <a:xfrm>
              <a:off x="7174080" y="5259600"/>
              <a:ext cx="533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H2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1"/>
            <p:cNvSpPr/>
            <p:nvPr/>
          </p:nvSpPr>
          <p:spPr>
            <a:xfrm>
              <a:off x="7021800" y="3659040"/>
              <a:ext cx="685800" cy="38088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NH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2"/>
            <p:cNvSpPr/>
            <p:nvPr/>
          </p:nvSpPr>
          <p:spPr>
            <a:xfrm>
              <a:off x="7098120" y="464976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00"/>
                  </a:solidFill>
                  <a:latin typeface="Arial"/>
                </a:rPr>
                <a:t>NAD(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3"/>
            <p:cNvSpPr/>
            <p:nvPr/>
          </p:nvSpPr>
          <p:spPr>
            <a:xfrm>
              <a:off x="7174080" y="411624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00"/>
                  </a:solidFill>
                  <a:latin typeface="Arial"/>
                </a:rPr>
                <a:t>NAD(P)</a:t>
              </a:r>
              <a:r>
                <a:rPr b="1" lang="en-US" sz="1600" spc="-1" strike="noStrike">
                  <a:solidFill>
                    <a:srgbClr val="663300"/>
                  </a:solidFill>
                  <a:latin typeface="Arial"/>
                </a:rPr>
                <a:t>H+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4"/>
            <p:cNvSpPr/>
            <p:nvPr/>
          </p:nvSpPr>
          <p:spPr>
            <a:xfrm>
              <a:off x="6564600" y="4344840"/>
              <a:ext cx="533160" cy="533160"/>
            </a:xfrm>
            <a:custGeom>
              <a:avLst/>
              <a:gdLst>
                <a:gd name="textAreaLeft" fmla="*/ 156600 w 533160"/>
                <a:gd name="textAreaRight" fmla="*/ 533520 w 5331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5"/>
            <p:cNvSpPr/>
            <p:nvPr/>
          </p:nvSpPr>
          <p:spPr>
            <a:xfrm>
              <a:off x="6640560" y="3963960"/>
              <a:ext cx="8380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6"/>
            <p:cNvSpPr/>
            <p:nvPr/>
          </p:nvSpPr>
          <p:spPr>
            <a:xfrm>
              <a:off x="4125960" y="457344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-GLUTAMATE</a:t>
              </a: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DEHYDROGENASE ENZY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7"/>
            <p:cNvSpPr/>
            <p:nvPr/>
          </p:nvSpPr>
          <p:spPr>
            <a:xfrm>
              <a:off x="5497560" y="5411880"/>
              <a:ext cx="761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8"/>
            <p:cNvSpPr/>
            <p:nvPr/>
          </p:nvSpPr>
          <p:spPr>
            <a:xfrm>
              <a:off x="6640560" y="52596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718000" cy="5040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832520" cy="648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Metabolism of Am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648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mmon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is produced by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ll tissues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during metabo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of a variety of  com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mmon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is disposed of primarily by formation of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ure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in the 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The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level of ammonia in blood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must be kept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ver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Slightly elevated concentrations (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hyperammonem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) are toxic to C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So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here must be a mechanism by which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monia is moved from peripheral tissues to the liver for disposal as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hil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monia must be maintained at low levels in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Oval 3"/>
          <p:cNvGrpSpPr/>
          <p:nvPr/>
        </p:nvGrpSpPr>
        <p:grpSpPr>
          <a:xfrm>
            <a:off x="1731960" y="324000"/>
            <a:ext cx="5564160" cy="2833560"/>
            <a:chOff x="1731960" y="324000"/>
            <a:chExt cx="5564160" cy="2833560"/>
          </a:xfrm>
        </p:grpSpPr>
        <p:pic>
          <p:nvPicPr>
            <p:cNvPr id="50" name="Oval 3" descr=""/>
            <p:cNvPicPr/>
            <p:nvPr/>
          </p:nvPicPr>
          <p:blipFill>
            <a:blip r:embed="rId1"/>
            <a:stretch/>
          </p:blipFill>
          <p:spPr>
            <a:xfrm>
              <a:off x="1731960" y="324000"/>
              <a:ext cx="5564160" cy="28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49680" y="919080"/>
              <a:ext cx="353052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No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 Stor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of 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Amino Acids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in the bod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Flowchart: Alternate Process 4"/>
          <p:cNvSpPr/>
          <p:nvPr/>
        </p:nvSpPr>
        <p:spPr>
          <a:xfrm>
            <a:off x="468360" y="3048120"/>
            <a:ext cx="8207280" cy="3260520"/>
          </a:xfrm>
          <a:prstGeom prst="flowChartAlternateProcess">
            <a:avLst/>
          </a:prstGeom>
          <a:solidFill>
            <a:srgbClr val="d7f4f5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,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amino acids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must be obtaine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i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novo synthesis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(of non-essential a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egradation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tein (normal turn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826920" y="1628640"/>
            <a:ext cx="11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rea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in the 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s quantitatively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ost importan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isposal route for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ea is formed in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liver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rom ammonia (urea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travels in the blood from the liver to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idney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where it is filtered to appear 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posal of Ammoni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826920" y="333360"/>
            <a:ext cx="244980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56944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-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utam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ost peripheral tissues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pecially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brain, sk.ms. &amp;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most peripheral tissues, glutamate binds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y action of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e synth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ra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it is the major mechanism of removal of ammonia from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s structure provides a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ntoxic storage &amp; transport form of amm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e is transported to blood to other organs esp. liver &amp; kidn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the liver &amp; Kidney, glutamine is converted to ammonia &amp; glutamate by the enzym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as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692360" y="4724280"/>
            <a:ext cx="6119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755640" y="26028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381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lan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skeletal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+  Pyruvate  form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anin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skeletal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anine is transported in blood to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liver, alanine is converted to pyruvate &amp;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yruvate can be converted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(by gluconeogen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an enter the blood to be used by skeletal muscl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GLUCOSE - ALANINE PATH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6769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4824360" cy="554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Disposal of Ammoni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0200" y="4869000"/>
            <a:ext cx="3260880" cy="886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an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Skeletal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30200" y="1773360"/>
            <a:ext cx="3260880" cy="11912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lu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Most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p. brain &amp; Kidn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30200" y="3573360"/>
            <a:ext cx="3260880" cy="886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6508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Verdana"/>
              </a:rPr>
              <a:t>Urea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rea is produced in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liver, it is transported in the blood to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idney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for excretion in u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Urea is compo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nit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rst nitrogen atom i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ree am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nitrogen atom  i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spar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bon &amp; oxygen atoms are from 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Reactions of the Urea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rst two reaction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ccur i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mainin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reactions occur i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mmonia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Aspartat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3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UREA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Fumarat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2 ADP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AMP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2 Pi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PPi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3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68360" y="2708280"/>
            <a:ext cx="842472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 flipH="1">
            <a:off x="1042920" y="3213000"/>
            <a:ext cx="1657440" cy="1511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H="1">
            <a:off x="1042920" y="3357720"/>
            <a:ext cx="2881440" cy="13665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2987640" y="3357720"/>
            <a:ext cx="936720" cy="14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1042920" y="3213000"/>
            <a:ext cx="4681440" cy="1511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H="1">
            <a:off x="4356000" y="3284640"/>
            <a:ext cx="237672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5508720" y="3284640"/>
            <a:ext cx="129528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H="1">
            <a:off x="6372000" y="3284640"/>
            <a:ext cx="43164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6804000" y="3284640"/>
            <a:ext cx="50472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501480" y="5589720"/>
            <a:ext cx="839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nthesis of urea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high-energy phosphate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re consumed for synthesi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e of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Overview of Urea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Verdana"/>
              </a:rPr>
              <a:t>Fate of U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synthesized in the liv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dn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eaved by bacterial u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 stool                   Reabsorbed in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4500720" y="2492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 flipH="1">
            <a:off x="2556000" y="3141720"/>
            <a:ext cx="180000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4429080" y="3116160"/>
            <a:ext cx="2303640" cy="358920"/>
          </a:xfrm>
          <a:prstGeom prst="line">
            <a:avLst/>
          </a:prstGeom>
          <a:ln w="5724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2410920" y="3933720"/>
            <a:ext cx="180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6659640" y="3933720"/>
            <a:ext cx="0" cy="5749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 flipH="1">
            <a:off x="6084720" y="4941720"/>
            <a:ext cx="648000" cy="2160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6659640" y="4941720"/>
            <a:ext cx="576360" cy="2160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"/>
          <p:cNvSpPr/>
          <p:nvPr/>
        </p:nvSpPr>
        <p:spPr>
          <a:xfrm flipH="1">
            <a:off x="4932000" y="5516640"/>
            <a:ext cx="576360" cy="3618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508720" y="5516640"/>
            <a:ext cx="1079280" cy="288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Content Placeholder 4"/>
          <p:cNvGrpSpPr/>
          <p:nvPr/>
        </p:nvGrpSpPr>
        <p:grpSpPr>
          <a:xfrm>
            <a:off x="2139840" y="2646360"/>
            <a:ext cx="4864320" cy="2608200"/>
            <a:chOff x="2139840" y="2646360"/>
            <a:chExt cx="4864320" cy="2608200"/>
          </a:xfrm>
        </p:grpSpPr>
        <p:pic>
          <p:nvPicPr>
            <p:cNvPr id="54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2139840" y="2646360"/>
              <a:ext cx="486432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901960" y="3048120"/>
              <a:ext cx="3340080" cy="17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b050"/>
                  </a:solidFill>
                  <a:latin typeface="Verdana"/>
                  <a:ea typeface="Verdana"/>
                </a:rPr>
                <a:t>Amino Acids Poo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Group 23" descr=""/>
          <p:cNvPicPr/>
          <p:nvPr/>
        </p:nvPicPr>
        <p:blipFill>
          <a:blip r:embed="rId2"/>
          <a:stretch/>
        </p:blipFill>
        <p:spPr>
          <a:xfrm>
            <a:off x="981000" y="1133640"/>
            <a:ext cx="24685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Group 22" descr=""/>
          <p:cNvPicPr/>
          <p:nvPr/>
        </p:nvPicPr>
        <p:blipFill>
          <a:blip r:embed="rId3"/>
          <a:stretch/>
        </p:blipFill>
        <p:spPr>
          <a:xfrm>
            <a:off x="3333600" y="549360"/>
            <a:ext cx="2500560" cy="26510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21"/>
          <p:cNvGrpSpPr/>
          <p:nvPr/>
        </p:nvGrpSpPr>
        <p:grpSpPr>
          <a:xfrm>
            <a:off x="5537880" y="1471680"/>
            <a:ext cx="3602880" cy="2451240"/>
            <a:chOff x="5537880" y="1471680"/>
            <a:chExt cx="3602880" cy="2451240"/>
          </a:xfrm>
        </p:grpSpPr>
        <p:sp>
          <p:nvSpPr>
            <p:cNvPr id="59" name="Notched Right Arrow 9"/>
            <p:cNvSpPr/>
            <p:nvPr/>
          </p:nvSpPr>
          <p:spPr>
            <a:xfrm rot="8643600">
              <a:off x="5611320" y="2706480"/>
              <a:ext cx="1686600" cy="797040"/>
            </a:xfrm>
            <a:custGeom>
              <a:avLst/>
              <a:gdLst>
                <a:gd name="textAreaLeft" fmla="*/ 285120 w 1686600"/>
                <a:gd name="textAreaRight" fmla="*/ 1401480 w 1686600"/>
                <a:gd name="textAreaTop" fmla="*/ 199080 h 797040"/>
                <a:gd name="textAreaBottom" fmla="*/ 597960 h 79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4292" y="5400"/>
                  </a:lnTo>
                  <a:lnTo>
                    <a:pt x="14292" y="0"/>
                  </a:lnTo>
                  <a:lnTo>
                    <a:pt x="21600" y="10800"/>
                  </a:lnTo>
                  <a:lnTo>
                    <a:pt x="14292" y="21600"/>
                  </a:lnTo>
                  <a:lnTo>
                    <a:pt x="14292" y="16200"/>
                  </a:lnTo>
                  <a:lnTo>
                    <a:pt x="0" y="16200"/>
                  </a:lnTo>
                  <a:lnTo>
                    <a:pt x="3654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Oval 15"/>
            <p:cNvGrpSpPr/>
            <p:nvPr/>
          </p:nvGrpSpPr>
          <p:grpSpPr>
            <a:xfrm>
              <a:off x="6190920" y="1471680"/>
              <a:ext cx="2949840" cy="2139840"/>
              <a:chOff x="6190920" y="1471680"/>
              <a:chExt cx="2949840" cy="2139840"/>
            </a:xfrm>
          </p:grpSpPr>
          <p:pic>
            <p:nvPicPr>
              <p:cNvPr id="61" name="Oval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0920" y="1676520"/>
                <a:ext cx="2949840" cy="17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430000">
                <a:off x="6341760" y="2265120"/>
                <a:ext cx="264744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Verdana"/>
                    <a:ea typeface="Verdana"/>
                  </a:rPr>
                  <a:t>Degrad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9"/>
          <p:cNvGrpSpPr/>
          <p:nvPr/>
        </p:nvGrpSpPr>
        <p:grpSpPr>
          <a:xfrm>
            <a:off x="316440" y="3771720"/>
            <a:ext cx="2751480" cy="2633760"/>
            <a:chOff x="316440" y="3771720"/>
            <a:chExt cx="2751480" cy="2633760"/>
          </a:xfrm>
        </p:grpSpPr>
        <p:sp>
          <p:nvSpPr>
            <p:cNvPr id="64" name="Notched Right Arrow 10"/>
            <p:cNvSpPr/>
            <p:nvPr/>
          </p:nvSpPr>
          <p:spPr>
            <a:xfrm rot="8671200">
              <a:off x="1504800" y="4057560"/>
              <a:ext cx="1354320" cy="1152720"/>
            </a:xfrm>
            <a:custGeom>
              <a:avLst/>
              <a:gdLst>
                <a:gd name="textAreaLeft" fmla="*/ 271080 w 1354320"/>
                <a:gd name="textAreaRight" fmla="*/ 1083240 w 1354320"/>
                <a:gd name="textAreaTop" fmla="*/ 288000 h 1152720"/>
                <a:gd name="textAreaBottom" fmla="*/ 86472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2946" y="5400"/>
                  </a:lnTo>
                  <a:lnTo>
                    <a:pt x="12946" y="0"/>
                  </a:lnTo>
                  <a:lnTo>
                    <a:pt x="21600" y="10800"/>
                  </a:lnTo>
                  <a:lnTo>
                    <a:pt x="12946" y="21600"/>
                  </a:lnTo>
                  <a:lnTo>
                    <a:pt x="12946" y="16200"/>
                  </a:lnTo>
                  <a:lnTo>
                    <a:pt x="0" y="16200"/>
                  </a:lnTo>
                  <a:lnTo>
                    <a:pt x="4327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ounded Rectangle 16"/>
            <p:cNvSpPr/>
            <p:nvPr/>
          </p:nvSpPr>
          <p:spPr>
            <a:xfrm rot="2199000">
              <a:off x="383760" y="5054400"/>
              <a:ext cx="1922760" cy="8622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  <a:effectLst>
              <a:outerShdw dist="38160" dir="162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Protein</a:t>
              </a: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synth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4"/>
          <p:cNvGrpSpPr/>
          <p:nvPr/>
        </p:nvGrpSpPr>
        <p:grpSpPr>
          <a:xfrm>
            <a:off x="3124080" y="4614840"/>
            <a:ext cx="2743200" cy="1970280"/>
            <a:chOff x="3124080" y="4614840"/>
            <a:chExt cx="2743200" cy="1970280"/>
          </a:xfrm>
        </p:grpSpPr>
        <p:sp>
          <p:nvSpPr>
            <p:cNvPr id="67" name="Notched Right Arrow 12"/>
            <p:cNvSpPr/>
            <p:nvPr/>
          </p:nvSpPr>
          <p:spPr>
            <a:xfrm rot="5400000">
              <a:off x="4013280" y="4526640"/>
              <a:ext cx="1046160" cy="1222200"/>
            </a:xfrm>
            <a:custGeom>
              <a:avLst/>
              <a:gdLst>
                <a:gd name="textAreaLeft" fmla="*/ 246600 w 1046160"/>
                <a:gd name="textAreaRight" fmla="*/ 799560 w 1046160"/>
                <a:gd name="textAreaTop" fmla="*/ 305640 h 1222200"/>
                <a:gd name="textAreaBottom" fmla="*/ 916920 h 12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1406" y="5400"/>
                  </a:lnTo>
                  <a:lnTo>
                    <a:pt x="11406" y="0"/>
                  </a:lnTo>
                  <a:lnTo>
                    <a:pt x="21600" y="10800"/>
                  </a:lnTo>
                  <a:lnTo>
                    <a:pt x="11406" y="21600"/>
                  </a:lnTo>
                  <a:lnTo>
                    <a:pt x="11406" y="16200"/>
                  </a:lnTo>
                  <a:lnTo>
                    <a:pt x="0" y="16200"/>
                  </a:lnTo>
                  <a:lnTo>
                    <a:pt x="5097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ounded Rectangle 17"/>
            <p:cNvSpPr/>
            <p:nvPr/>
          </p:nvSpPr>
          <p:spPr>
            <a:xfrm>
              <a:off x="3124080" y="5769000"/>
              <a:ext cx="2743200" cy="8161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  <a:effectLst>
              <a:outerShdw dist="38160" dir="162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Other Nitogen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containing comp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Group 20" descr=""/>
          <p:cNvPicPr/>
          <p:nvPr/>
        </p:nvPicPr>
        <p:blipFill>
          <a:blip r:embed="rId5"/>
          <a:stretch/>
        </p:blipFill>
        <p:spPr>
          <a:xfrm>
            <a:off x="6413400" y="4054320"/>
            <a:ext cx="22496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238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yperammonemia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Increase of ammonia level of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88995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od Ammo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Normal level of blood ammonia is 5-50 mmol/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perammone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 medical emergency as ammonia has a direct neurotoxic effect on 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monia intoxic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t is defined as toxicity of the brain due to increase in ammonia level in the systemic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his increased ammonia will be directed to </a:t>
            </a:r>
            <a:r>
              <a:rPr b="1" lang="el-GR" sz="1800" spc="-1" strike="noStrike">
                <a:solidFill>
                  <a:srgbClr val="0000cc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ketoglutarate to form glutamic acid then glutamine  leading to interference with citric acid cycle </a:t>
            </a:r>
            <a:r>
              <a:rPr b="1" lang="en-US" sz="18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so decrease ATP production in the brain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linical manifest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emors, slurring of speech, somnolence, vomiting, cerebral edema &amp; blurring of vision. At high concentrations, ammonia can cause coma &amp;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57200" y="335268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pes of Hyperammo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88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1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quired Hyperammo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1-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iver diseases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re common causes in 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cute causes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iral hepatitis, ischemia, hepatotox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-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ronic cau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iver cirrhosis due to alcoholism, hepatitis, biliary obstruction…etc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esult in the formation of collateral circulation around the 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, portal blood is shunted directly into systemic circulation &amp; detoxic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f ammonia to urea is markedly impa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-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Gatrointestinal Bl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y action of bacteria of GIT on blood urea with production of big amounts of ammonia that is absorbed to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38188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editary Hyperammo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enetic deficiencies can occur for each of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ive enzymes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of the urea cycle (overall prevalence 1:300,000 live bir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rnithine transcarbamoylase (OTC) de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X-lin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ost common deficiency among all 5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les are predominantly aff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emales carriers are clinically a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ll other urea cycle disorders are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autosomal recessive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each case, failure to synthesize urea leads to hyperammonemia during the first weeks following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ll inherited disorders of the urea cycle enzymes result in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ntal retar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pes of Hyperammonemi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844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imiting protein in d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ministration of compounds that bind covalently to amino acid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 produce nitrogen-containing molecules that are excreted in t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urine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henylbutyrat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iven orally converted to phenylacetate tha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denses  with glutamine to form phenylacetylglutamine which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xcreted in u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eatment of Hyperammo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Hyperammonemia in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na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loo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levels are ele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ransfer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to intestine is increase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uch amount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is formed by </a:t>
            </a:r>
            <a:r>
              <a:rPr b="0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bacterial u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bsorbed to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yperammo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To reduce hyperammonem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Oral neomycin reduces the amount of intestinal bacteri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responsible for ammonia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421164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"/>
          <p:cNvGrpSpPr/>
          <p:nvPr/>
        </p:nvGrpSpPr>
        <p:grpSpPr>
          <a:xfrm>
            <a:off x="4211640" y="1700280"/>
            <a:ext cx="0" cy="3168720"/>
            <a:chOff x="4211640" y="1700280"/>
            <a:chExt cx="0" cy="3168720"/>
          </a:xfrm>
        </p:grpSpPr>
        <p:sp>
          <p:nvSpPr>
            <p:cNvPr id="211" name="Line 4"/>
            <p:cNvSpPr/>
            <p:nvPr/>
          </p:nvSpPr>
          <p:spPr>
            <a:xfrm>
              <a:off x="4211640" y="170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4211640" y="2563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4211640" y="328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>
              <a:off x="4211640" y="4580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9"/>
          <p:cNvSpPr/>
          <p:nvPr/>
        </p:nvSpPr>
        <p:spPr>
          <a:xfrm>
            <a:off x="468360" y="5373720"/>
            <a:ext cx="8351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058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  <a:ea typeface="Verdana"/>
              </a:rPr>
              <a:t>Protein turn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4000" y="4652640"/>
            <a:ext cx="8348760" cy="16556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Most proteins in the body are constantly be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synthesized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&amp; 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degraded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, permitting the removal of abnormal or unneede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3"/>
          <p:cNvSpPr/>
          <p:nvPr/>
        </p:nvSpPr>
        <p:spPr>
          <a:xfrm>
            <a:off x="4013280" y="1628640"/>
            <a:ext cx="772920" cy="517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68360" y="2184480"/>
            <a:ext cx="8315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76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Protein Degra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840" y="907560"/>
            <a:ext cx="8605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Two Major Enzy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Ubiquitin-proteasome mecha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inly for endogenous prote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proteins synthesized within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Lysosomes</a:t>
            </a:r>
            <a:r>
              <a:rPr b="1" lang="ar-SA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n-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for extracellular proteins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plasma proteins that are taken into cells by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cell surface membrane proteins: for receptor-mediated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5076720" y="3879720"/>
            <a:ext cx="3840120" cy="1494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624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15880" y="2492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Amino Acids Catabo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83960" y="1341360"/>
            <a:ext cx="8708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Unlike glucose and fatty acids,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ar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 Narrow"/>
                <a:ea typeface="Times New Roman"/>
              </a:rPr>
              <a:t>not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stored by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in excess of biosynthetic needs are degr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Degradation of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invol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  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 Narrow"/>
                <a:ea typeface="Times New Roman"/>
              </a:rPr>
              <a:t>First Stage:</a:t>
            </a:r>
            <a:r>
              <a:rPr b="1" i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Removal of </a:t>
            </a:r>
            <a:r>
              <a:rPr b="1" lang="el-GR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-amino group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(N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 Narrow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 Narrow"/>
                <a:ea typeface="Times New Roman"/>
              </a:rPr>
              <a:t>Second Stage:</a:t>
            </a:r>
            <a:r>
              <a:rPr b="1" i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Remaining carbon skeleton                           Energy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"/>
          <p:cNvCxnSpPr/>
          <p:nvPr/>
        </p:nvCxnSpPr>
        <p:spPr>
          <a:xfrm>
            <a:off x="5292720" y="3715920"/>
            <a:ext cx="915120" cy="2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2" name="Straight Arrow Connector 5"/>
          <p:cNvCxnSpPr/>
          <p:nvPr/>
        </p:nvCxnSpPr>
        <p:spPr>
          <a:xfrm>
            <a:off x="5219640" y="5084280"/>
            <a:ext cx="915120" cy="2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4760" y="260280"/>
            <a:ext cx="8229600" cy="720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ino Acids Catabolism -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755640" y="334080"/>
            <a:ext cx="7561440" cy="52056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st phase of catabolism of amino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4"/>
          <p:cNvSpPr/>
          <p:nvPr/>
        </p:nvSpPr>
        <p:spPr>
          <a:xfrm>
            <a:off x="4724280" y="1773360"/>
            <a:ext cx="2819520" cy="143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th production of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lowchart: Alternate Process 7"/>
          <p:cNvSpPr/>
          <p:nvPr/>
        </p:nvSpPr>
        <p:spPr>
          <a:xfrm>
            <a:off x="5100480" y="3284640"/>
            <a:ext cx="2135520" cy="99216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Free 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n Arrow 8"/>
          <p:cNvSpPr/>
          <p:nvPr/>
        </p:nvSpPr>
        <p:spPr>
          <a:xfrm>
            <a:off x="4952880" y="4437000"/>
            <a:ext cx="2590920" cy="137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 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 Same Side Corner Rectangle 9"/>
          <p:cNvSpPr/>
          <p:nvPr/>
        </p:nvSpPr>
        <p:spPr>
          <a:xfrm>
            <a:off x="250920" y="5565600"/>
            <a:ext cx="3744720" cy="816120"/>
          </a:xfrm>
          <a:prstGeom prst="pie">
            <a:avLst/>
          </a:prstGeom>
          <a:solidFill>
            <a:srgbClr val="d6ecee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mall amount excreted in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10"/>
          <p:cNvSpPr/>
          <p:nvPr/>
        </p:nvSpPr>
        <p:spPr>
          <a:xfrm rot="3538800">
            <a:off x="3997440" y="4101120"/>
            <a:ext cx="533520" cy="16304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 Same Side Corner Rectangle 11"/>
          <p:cNvSpPr/>
          <p:nvPr/>
        </p:nvSpPr>
        <p:spPr>
          <a:xfrm>
            <a:off x="4800600" y="5867280"/>
            <a:ext cx="2743200" cy="8017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U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1403280" y="1125360"/>
            <a:ext cx="54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haroni"/>
              </a:rPr>
              <a:t>emoval of the α-amino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00:55Z</dcterms:created>
  <dc:creator>Sherif</dc:creator>
  <dc:description/>
  <dc:language>en-US</dc:language>
  <cp:lastModifiedBy>Jamal Younis</cp:lastModifiedBy>
  <dcterms:modified xsi:type="dcterms:W3CDTF">2016-10-09T08:52:12Z</dcterms:modified>
  <cp:revision>464</cp:revision>
  <dc:subject/>
  <dc:title>Overview</dc:title>
</cp:coreProperties>
</file>